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8CB1-77D1-437C-8C8A-B89EB98B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A3D-FA91-4A36-8E45-96A4F1DC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4E46-6F6F-4800-98F3-B36F9A9F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F2F-8873-4D55-9804-29064585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BF0-30CD-446A-AE7B-44B643C9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9B76-C613-4B39-841C-0B603D33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C72-A2B6-4B3D-9AC0-0649FDF9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5BB-AC79-48FB-8DE5-5BAC81F6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24B4-4EA2-4717-B68C-C7C5195A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6E1-63A4-44A9-816D-9036891A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AD48-57FA-4FCA-ACE5-4ADBFF6A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860-8AA6-4E9A-B51B-EEEEB359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30DA-738A-4ABD-981C-1C121D1A6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ush Script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103680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Script MT Bold"/>
              </a:rPr>
              <a:t>Ginger McKinney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762120" y="121932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43" name="Line 4"/>
          <p:cNvSpPr/>
          <p:nvPr/>
        </p:nvSpPr>
        <p:spPr>
          <a:xfrm>
            <a:off x="762120" y="83808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45" name="Line 6"/>
          <p:cNvSpPr/>
          <p:nvPr/>
        </p:nvSpPr>
        <p:spPr>
          <a:xfrm>
            <a:off x="762120" y="254484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46" name="Line 7"/>
          <p:cNvSpPr/>
          <p:nvPr/>
        </p:nvSpPr>
        <p:spPr>
          <a:xfrm>
            <a:off x="762120" y="216360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48" name="Line 9"/>
          <p:cNvSpPr/>
          <p:nvPr/>
        </p:nvSpPr>
        <p:spPr>
          <a:xfrm>
            <a:off x="762120" y="37638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762120" y="33829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62120" y="426708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762120" y="50292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838080" y="6324480"/>
            <a:ext cx="7696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838080" y="5943600"/>
            <a:ext cx="76964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Script MT Bold"/>
              </a:rPr>
              <a:t>Robin Buchanan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Chad Young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762120" y="42973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-263880"/>
            <a:ext cx="7696080" cy="23266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62120" y="121932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62" name="Line 4"/>
          <p:cNvSpPr/>
          <p:nvPr/>
        </p:nvSpPr>
        <p:spPr>
          <a:xfrm>
            <a:off x="762120" y="83808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64" name="Line 6"/>
          <p:cNvSpPr/>
          <p:nvPr/>
        </p:nvSpPr>
        <p:spPr>
          <a:xfrm>
            <a:off x="762120" y="254484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65" name="Line 7"/>
          <p:cNvSpPr/>
          <p:nvPr/>
        </p:nvSpPr>
        <p:spPr>
          <a:xfrm>
            <a:off x="762120" y="216360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67" name="Line 9"/>
          <p:cNvSpPr/>
          <p:nvPr/>
        </p:nvSpPr>
        <p:spPr>
          <a:xfrm>
            <a:off x="762120" y="37638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762120" y="33829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762120" y="426708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762120" y="50292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838080" y="6324480"/>
            <a:ext cx="7696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74" name="Line 16"/>
          <p:cNvSpPr/>
          <p:nvPr/>
        </p:nvSpPr>
        <p:spPr>
          <a:xfrm>
            <a:off x="838080" y="5943600"/>
            <a:ext cx="76964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762120" y="42973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103680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Script MT Bold"/>
              </a:rPr>
              <a:t>Mason Byrd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762120" y="121932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81" name="Line 4"/>
          <p:cNvSpPr/>
          <p:nvPr/>
        </p:nvSpPr>
        <p:spPr>
          <a:xfrm>
            <a:off x="762120" y="83808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83" name="Line 6"/>
          <p:cNvSpPr/>
          <p:nvPr/>
        </p:nvSpPr>
        <p:spPr>
          <a:xfrm>
            <a:off x="762120" y="254484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84" name="Line 7"/>
          <p:cNvSpPr/>
          <p:nvPr/>
        </p:nvSpPr>
        <p:spPr>
          <a:xfrm>
            <a:off x="762120" y="216360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86" name="Line 9"/>
          <p:cNvSpPr/>
          <p:nvPr/>
        </p:nvSpPr>
        <p:spPr>
          <a:xfrm>
            <a:off x="762120" y="37638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762120" y="33829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762120" y="426708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762120" y="50292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838080" y="6324480"/>
            <a:ext cx="7696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93" name="Line 16"/>
          <p:cNvSpPr/>
          <p:nvPr/>
        </p:nvSpPr>
        <p:spPr>
          <a:xfrm>
            <a:off x="838080" y="5943600"/>
            <a:ext cx="76964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Alyssia Banks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Juliana Allen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762120" y="42973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Brenea Waldrup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Trey Banks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Matthew Letterma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762120" y="121932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762120" y="83808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762120" y="254484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762120" y="216360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762120" y="37638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762120" y="33829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762120" y="426708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762120" y="50292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838080" y="6324480"/>
            <a:ext cx="7696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838080" y="5943600"/>
            <a:ext cx="76964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Abigail Ayers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Rory Ledford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762120" y="42973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Summer Wilson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Nicky Pittman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Kennady Cooper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120" y="121932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762120" y="83808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762120" y="254484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762120" y="216360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762120" y="37638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25" name="Line 10"/>
          <p:cNvSpPr/>
          <p:nvPr/>
        </p:nvSpPr>
        <p:spPr>
          <a:xfrm>
            <a:off x="762120" y="33829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762120" y="426708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762120" y="50292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838080" y="6324480"/>
            <a:ext cx="7696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838080" y="5943600"/>
            <a:ext cx="76964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Caitlin Ledbetter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Brianna O’Hagan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762120" y="42973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Shane Davidson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Anika Pittman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Marcus Silver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762120" y="121932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762120" y="83808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762120" y="254484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62120" y="216360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762120" y="37638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762120" y="33829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762120" y="426708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762120" y="5029200"/>
            <a:ext cx="7696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838080" y="6324480"/>
            <a:ext cx="7696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838080" y="5943600"/>
            <a:ext cx="76964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762120" y="17827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Mason Booth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762120" y="300204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Bailie Hopson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762120" y="4297320"/>
            <a:ext cx="769608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C. J. Wilson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838080" y="5562720"/>
            <a:ext cx="7696440" cy="960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Script MT Bold"/>
              </a:rPr>
              <a:t>Stetson Fox</a:t>
            </a:r>
            <a:endParaRPr b="0" lang="en-US" sz="7200" spc="-1" strike="noStrike">
              <a:solidFill>
                <a:srgbClr val="000000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1:30:44Z</dcterms:created>
  <dc:creator>Yancey County Schools</dc:creator>
  <dc:description/>
  <dc:language>en-US</dc:language>
  <cp:lastModifiedBy>Elementary Education</cp:lastModifiedBy>
  <dcterms:modified xsi:type="dcterms:W3CDTF">2011-04-28T19:43:43Z</dcterms:modified>
  <cp:revision>9</cp:revision>
  <dc:subject/>
  <dc:title> </dc:title>
</cp:coreProperties>
</file>